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476-32BE-4B23-A761-7661A992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CF8-3E2B-4EAF-AB63-1D07B5DB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932-2B59-4052-A3DC-9D5B5B86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7DA-0FA5-41EE-8943-ADF6C7A9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D3D-3822-4832-9666-8AAC521B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825-0292-47FC-AEEF-C0F76B16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0FA-E894-4FBF-9C1E-8A596E20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E19-B483-4857-952F-AEF76434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C5A-8C24-4C6D-A7A6-6A1184D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A2C-CFC6-4BB5-ADDE-2B01897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5CF-263A-4992-8ED4-C938FA27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EB9-EFC5-49C1-A1AE-570151A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ED1A-E55E-40A6-A5DB-8B611F2BA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0"/>
            <a:ext cx="518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518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0"/>
            <a:ext cx="5181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492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492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rew was first to circumnavigate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0"/>
            <a:ext cx="5181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492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rew was first to circumnavigate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nquered the Aztec (gold); claimed Mexico for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0"/>
            <a:ext cx="518148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492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rew was first to circumnavigate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nquered the Aztec (gold); claimed Mexico for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onquered the Inca (potato); claimed much of S. America for Spai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518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51814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0"/>
            <a:ext cx="51814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518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0"/>
            <a:ext cx="51814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European immigrate to N. and S.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0"/>
            <a:ext cx="51814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European immigrate to N. and S.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Demise of Maya, Aztec, and Inca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0"/>
            <a:ext cx="518148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European immigrate to N. and S.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Demise of Maya, Aztec, and Inca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Horses, cattle, and smallpox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0"/>
            <a:ext cx="518148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European immigrate to N. and S.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Demise of Maya, Aztec, and Inca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Horses, cattle, and smallpox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otato, corn, and tobacco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0"/>
            <a:ext cx="5181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0"/>
            <a:ext cx="51814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0"/>
            <a:ext cx="51814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0"/>
            <a:ext cx="51814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laves brought over on Middle Passage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518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0"/>
            <a:ext cx="518148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laves brought over on Middle Passage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atholic missionaries—converted natives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0"/>
            <a:ext cx="518148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laves brought over on Middle Passage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atholic missionaries—converted natives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ictato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igid class system—Spanish on top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0"/>
            <a:ext cx="5181480" cy="67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laves brought over on Middle Passage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atholic missionaries—converted natives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ictato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igid class system—Spanish on top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conomic Theory: says wealth=power, so collect bull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3962520" cy="692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What country had the most bullion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at effect did the bullion have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 Why did Spain decline as a 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0"/>
            <a:ext cx="518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3962520" cy="692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What country had the most bullion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at effect did the bullion have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 Why did Spain decline as a 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0"/>
            <a:ext cx="518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ai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3962520" cy="692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What country had the most bullion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at effect did the bullion have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 Why did Spain decline as a 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ai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evere inflation—ruined economy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3962520" cy="692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What country had the most bullion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at effect did the bullion have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 Why did Spain decline as a 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ai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evere inflation—ruined economy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id not industrializ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0"/>
            <a:ext cx="5181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 Quixot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--the first nove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5181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 Quixot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--the first nove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GOLD (get rich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5181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 Quixot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--the first nove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GOLD (get rich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. GLORY (get fam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51814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 Quixot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--the first nove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GOLD (get rich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. GLORY (get fam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3. GOD (proselytize Christianity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21:58:05Z</dcterms:created>
  <dc:creator>m ingerson</dc:creator>
  <dc:description/>
  <dc:language>en-US</dc:language>
  <cp:lastModifiedBy>Salem City  Schools</cp:lastModifiedBy>
  <dcterms:modified xsi:type="dcterms:W3CDTF">2003-05-20T14:07:09Z</dcterms:modified>
  <cp:revision>9</cp:revision>
  <dc:subject/>
  <dc:title>No Slide Title</dc:title>
</cp:coreProperties>
</file>